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265765-64E2-4DD6-AC1B-34E2D6A219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C09C724A-D48F-4615-AC2F-9BEBA54DF25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7F97B7-2DC6-4AEA-ABE3-C8A6E901CB3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DC55DE-3F5D-424A-8217-3A543C61BB4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12361B-2EEC-4A8D-9F6F-D21E6BC8E01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489658B-8D4C-4DBD-A22A-AA27058C2C0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54A0E09E-7709-4F91-960B-0478DF602AD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A13A018C-DEF0-41A0-A3FE-574E0391391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252440"/>
            <a:ext cx="778032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5: Planning II - Estimating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Princip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ccuracy improves when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 a product down into pa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each part separate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hieve a balance between over- and under-estimating on the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ason that the estimates become accurate is that with a balance of over- and under-estimates, the errors tend to cancel each other ou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se that you need to estimate the size of a design docu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historical data shows tha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sizes have been within ± 50% of your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tend to have a balance between under- and over-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, you estimate the design document as a whole at 50 pages.  Based on your estimating experience, the actual size should be somewhere between 25 and 75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you decide to estimate the design document in par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break the document into 4 parts and estimate each part separ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ize estimate totals 62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accuracy? That is, within what range around 62 do you expect the actual size to b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your past estimating experience shows that you tend to have a balance between over- and under-estimates, you would expect that a couple of the parts are over-estimated and a couple may be under-estimated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at case, the errors will tend to cancel each other, and the error for the total estimate will be less than the sum of the individual err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some simple mathematics, you can calculate the range around your estimate within which the actual value should fall, based on your past estimating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y your past experience of having the actual size be within ± 50% of your estimates to the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1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  4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3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4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  7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 4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 page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±10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 total size estimate is the sum of the individual estimates, the error range for the total is not the sum of the individual r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: Estimating in Detail -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rror range for the total estimate is the square root of the sum of the squares of the individual r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157400" y="2732040"/>
                <a:ext cx="604512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uracy of the Estim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4"/>
          <p:cNvGraphicFramePr/>
          <p:nvPr/>
        </p:nvGraphicFramePr>
        <p:xfrm>
          <a:off x="252360" y="1486080"/>
          <a:ext cx="8431200" cy="507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86080"/>
                    <a:ext cx="84312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estimating is to become 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variability of your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hieve a balance between under- and over-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come consistent at estimating, you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defined proc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and use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Estimating Proble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se that you wanted to estimate how long it would take to write a repor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data on a couple of reports you have written rece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pages per chap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you proceed in making your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 Estimating Proble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had an estimate for the number of pages in the report, you could estimate the development time by using your average productivity from the earlier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you estimate the number of pages from the report requiremen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Directl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 way to estimate the report size would be to estimate the whole report at onc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ou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e requirements for this report to previous repo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historical data to guide your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all our earlier discussion of estimate accurac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ccuracy are you likely to achie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with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other approach would be to break the report into parts and estimate the size of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ou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hapter out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of each chap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up the estimates for the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e accuracy for this estimate likely to compare with the first approach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oosing the Estimating Meth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report is just a chapter or two, directly estimating size would probably suff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report is more than a chapter or two, breaking the report into chapters and estimating the size of each chapter would result in a more accurate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illustrate how to estimate with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Metho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following situation. You and your spouse decide to build your dream hous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go to a contractor to get some idea of what it will cost. The contractor tells you that they estimate cost based on the size of the house measured in square fee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nd your spouse don’t visualize your dream house in terms of square feet, but in terms of the rooms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tractor has some data on room sizes and suggests that you use the data to estimate the size of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ractor’s Room Siz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1606680" y="1612800"/>
          <a:ext cx="8313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1612800"/>
                    <a:ext cx="8313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Metho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nd your spouse list the rooms for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room, you identify the type of room (e.g., bedroom) and its relative siz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you go to the contractor’s room size data and find the size in square feet for each roo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you add up the estimated sizes for all of the rooms in your dream house to come up with an overall size estimate for your dream ho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ream House Size Estim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55520" y="174744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oom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m type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Rel size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Est sq f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ster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est B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d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ster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ildren’s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est 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itch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itch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6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v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9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ute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wder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th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7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Line 1028"/>
          <p:cNvSpPr/>
          <p:nvPr/>
        </p:nvSpPr>
        <p:spPr>
          <a:xfrm>
            <a:off x="696960" y="5952960"/>
            <a:ext cx="75009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Estimating Techniq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eps for estimating product size are the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onceptual design that breaks the product into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relative size of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historical data to convert the relative sizes into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estimates for th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elaborate on this appr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eptual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conceptual design for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preliminary design approach that breaks the product down into an expected set of parts, e.g., chapters for a re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produced mainly to make the size estimate; you may change it when you get into the design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ings that you understand, the conceptual design can be done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:  chapter out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:  major parts/components needed for bui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ing the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relative size of each p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judgement to pick a relative size:  small, medium, or la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estimate for the part is taken from the relative siz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tive size table is created from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roject Planning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279520" y="161928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79520" y="2400480"/>
            <a:ext cx="1397160" cy="658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79520" y="330984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79520" y="4140360"/>
            <a:ext cx="1397160" cy="58572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79520" y="497376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79520" y="5732640"/>
            <a:ext cx="1397160" cy="5108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59360" y="5692680"/>
            <a:ext cx="1622160" cy="6987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, resource,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129360" y="5850000"/>
            <a:ext cx="102564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Oval 12"/>
          <p:cNvSpPr/>
          <p:nvPr/>
        </p:nvSpPr>
        <p:spPr>
          <a:xfrm>
            <a:off x="4135320" y="4935600"/>
            <a:ext cx="1428840" cy="6969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vailab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4135320" y="4087800"/>
            <a:ext cx="1428840" cy="7858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4059360" y="3213000"/>
            <a:ext cx="1527120" cy="7876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941480" y="1874880"/>
            <a:ext cx="2952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3016080" y="224316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683160" y="602460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689440" y="6013440"/>
            <a:ext cx="4352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6445080" y="3611160"/>
            <a:ext cx="0" cy="2241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H="1">
            <a:off x="5613120" y="3610080"/>
            <a:ext cx="84276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>
            <a:off x="5613120" y="4506840"/>
            <a:ext cx="8110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 flipH="1">
            <a:off x="3682800" y="360036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3665160" y="4506840"/>
            <a:ext cx="460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 flipH="1">
            <a:off x="3683160" y="5265720"/>
            <a:ext cx="4428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3016080" y="31510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3016080" y="39844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3016080" y="481824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016080" y="557532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H="1">
            <a:off x="1906200" y="5986440"/>
            <a:ext cx="3301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5613480" y="5265720"/>
            <a:ext cx="838080" cy="0"/>
          </a:xfrm>
          <a:prstGeom prst="line">
            <a:avLst/>
          </a:prstGeom>
          <a:ln w="12600">
            <a:solidFill>
              <a:srgbClr val="39536b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7151760" y="6039000"/>
            <a:ext cx="406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Oval 32"/>
          <p:cNvSpPr/>
          <p:nvPr/>
        </p:nvSpPr>
        <p:spPr>
          <a:xfrm>
            <a:off x="725400" y="162864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725400" y="566568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7561440" y="5722920"/>
            <a:ext cx="1172880" cy="66024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por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730080" y="3760920"/>
            <a:ext cx="1298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7452720" y="5130720"/>
            <a:ext cx="147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8137440" y="5432040"/>
            <a:ext cx="0" cy="2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 flipH="1">
            <a:off x="6516720" y="5264280"/>
            <a:ext cx="1006560" cy="14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1332000" y="232884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Line 40"/>
          <p:cNvSpPr/>
          <p:nvPr/>
        </p:nvSpPr>
        <p:spPr>
          <a:xfrm flipV="1">
            <a:off x="1332000" y="413856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Oval 41"/>
          <p:cNvSpPr/>
          <p:nvPr/>
        </p:nvSpPr>
        <p:spPr>
          <a:xfrm>
            <a:off x="5784840" y="1631880"/>
            <a:ext cx="555480" cy="3081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5734080" y="2025720"/>
            <a:ext cx="660240" cy="307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920" bIns="25920" anchor="ctr">
            <a:noAutofit/>
          </a:bodyPr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6483240" y="1631880"/>
            <a:ext cx="829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6483240" y="2006640"/>
            <a:ext cx="8794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Relative Size Tab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tive size table is constructed using historical data on the size of parts that you have built in the p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st size (maximum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est size (minimum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ute the average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2517840" y="4446720"/>
                <a:ext cx="4178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reating a Relative Size Tab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ximum, minimum, and average sizes are used to calculate size entries for the relative siz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703520" y="2398680"/>
                <a:ext cx="491328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rg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imu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diu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mal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: Relative Size 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ollowing size data for 20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erage = 22.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maximum - average)/2  = 8.87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average - minimum)/2   = 5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dium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 + 8.875 = 31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 part =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2.25  - 5.125 = 17.1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369720" y="2163600"/>
          <a:ext cx="8595000" cy="134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163600"/>
                    <a:ext cx="8595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6"/>
          <p:cNvGraphicFramePr/>
          <p:nvPr/>
        </p:nvGraphicFramePr>
        <p:xfrm>
          <a:off x="1984320" y="5740560"/>
          <a:ext cx="4846680" cy="857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5740560"/>
                    <a:ext cx="48466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ditional Com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parts must be separated into distinct size group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such as rooms of a house, where baths have a much different size range than bedrooms), you may need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separate typ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entries in your size table for each ty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historical productivity rate to estimate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082520" y="2120760"/>
                <a:ext cx="5053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imate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ima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069920" y="3006720"/>
                <a:ext cx="5270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jec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jec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ultiple Siz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each process step has a unique size measure that relates to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for each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effort for each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bine the effort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stimating Without Historical Dat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n’t have historical data, you can still use these methods, but you’ll have to use guesses in place of the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even a little bit of data can improve your estimates, see if you can get some baseline data from someone el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size table, make your best guess on the sizes of small, medium, and large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your best guess on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ll but very small products, size estimates should be done by breaking the product down into parts and then estimating the size of the parts using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stimates are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storical rates for 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now apply the PSP size and effort estimating methods to calculate a relative size table for writing a 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some historical data on size and time from using a scripted book-writing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values for the relative size 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an overall rate to be used in estimat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ions in the workbook will guide you through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e exercise, the instructor will review the results with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048560" y="4357800"/>
            <a:ext cx="1696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446640" y="3986280"/>
            <a:ext cx="7300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estimating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to estimate size and effort using the PSP planning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instr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M&amp;M’s in container 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estimate here. ________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ctual number of M&amp;M’s in container A is _____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609800" y="3360600"/>
            <a:ext cx="146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 min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3890880" y="3038400"/>
            <a:ext cx="73044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xercis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w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M&amp;M’s in container 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estimate here _______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ctual number of M&amp;M’s in container B is _____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609800" y="3844800"/>
            <a:ext cx="146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 min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890880" y="3522600"/>
            <a:ext cx="73044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ittle data can significantly improve your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 on things that you’ve done before, you can quickly make reasonabl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experience with making estimat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Princip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n uncertai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one knows what the final size or effort will b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re data you have, the better your estimates are likely to b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arlier the estimate is made, the less is know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or other pressures can bias an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 skill that must be learned, practiced, and main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ility improves with experience and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people will be better at estimating than oth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0:53:18Z</cp:lastPrinted>
  <dcterms:modified xsi:type="dcterms:W3CDTF">2018-09-06T00:16:04Z</dcterms:modified>
  <cp:revision>139</cp:revision>
  <dc:subject/>
  <dc:title>No Slide Title</dc:title>
</cp:coreProperties>
</file>